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png" ContentType="image/png"/>
  <Override PartName="/ppt/media/image9.wmf" ContentType="image/x-wmf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25320" y="1674360"/>
            <a:ext cx="77724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25320" y="3946680"/>
            <a:ext cx="77724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5320" y="167436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08000" y="167436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320" y="394668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08000" y="394668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25320" y="1674360"/>
            <a:ext cx="250236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53320" y="1674360"/>
            <a:ext cx="250236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80960" y="1674360"/>
            <a:ext cx="250236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25320" y="3946680"/>
            <a:ext cx="250236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53320" y="3946680"/>
            <a:ext cx="250236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80960" y="3946680"/>
            <a:ext cx="250236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5320" y="1674360"/>
            <a:ext cx="37926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08000" y="1674360"/>
            <a:ext cx="37926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901440" y="480600"/>
            <a:ext cx="7041960" cy="43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25320" y="167436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08000" y="1674360"/>
            <a:ext cx="37926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5320" y="394668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25320" y="1674360"/>
            <a:ext cx="37926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08000" y="167436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08000" y="394668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25320" y="167436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08000" y="167436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25320" y="3946680"/>
            <a:ext cx="77724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1" marL="444600" indent="-157320"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2" marL="731880" indent="-17316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3" marL="1020600" indent="-174600"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4" marL="1320840" indent="-16992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5" marL="1320840" indent="-16992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6" marL="1320840" indent="-16992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" name="Text Box 37"/>
          <p:cNvSpPr/>
          <p:nvPr/>
        </p:nvSpPr>
        <p:spPr>
          <a:xfrm>
            <a:off x="968400" y="5216400"/>
            <a:ext cx="1003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2"/>
          <p:cNvSpPr/>
          <p:nvPr/>
        </p:nvSpPr>
        <p:spPr>
          <a:xfrm>
            <a:off x="0" y="0"/>
            <a:ext cx="9144000" cy="2793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69920" indent="-169920">
              <a:spcBef>
                <a:spcPts val="675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10"/>
          <p:cNvSpPr/>
          <p:nvPr/>
        </p:nvSpPr>
        <p:spPr>
          <a:xfrm>
            <a:off x="0" y="6478560"/>
            <a:ext cx="9144000" cy="39852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69920" indent="-169920">
              <a:spcBef>
                <a:spcPts val="675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3" descr="MHE-red-RGB-email-logo.png"/>
          <p:cNvPicPr/>
          <p:nvPr/>
        </p:nvPicPr>
        <p:blipFill>
          <a:blip r:embed="rId2"/>
          <a:stretch/>
        </p:blipFill>
        <p:spPr>
          <a:xfrm>
            <a:off x="88920" y="98280"/>
            <a:ext cx="612720" cy="613080"/>
          </a:xfrm>
          <a:prstGeom prst="rect">
            <a:avLst/>
          </a:prstGeom>
          <a:ln w="0">
            <a:noFill/>
          </a:ln>
        </p:spPr>
      </p:pic>
      <p:sp>
        <p:nvSpPr>
          <p:cNvPr id="6" name="Text Box 35"/>
          <p:cNvSpPr/>
          <p:nvPr/>
        </p:nvSpPr>
        <p:spPr>
          <a:xfrm>
            <a:off x="8426520" y="6648480"/>
            <a:ext cx="717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71B51-96C6-44C0-8343-0A4F6606127D}" type="slidenum">
              <a:rPr b="0" lang="en-US" sz="9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Text Box 36"/>
          <p:cNvSpPr/>
          <p:nvPr/>
        </p:nvSpPr>
        <p:spPr>
          <a:xfrm>
            <a:off x="-22320" y="6451560"/>
            <a:ext cx="295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Curtin, Foley, Sen, Morin, Informatica di base, 6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Text Box 36"/>
          <p:cNvSpPr/>
          <p:nvPr/>
        </p:nvSpPr>
        <p:spPr>
          <a:xfrm>
            <a:off x="6561000" y="6485040"/>
            <a:ext cx="2584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©2016 McGraw-Hill Education (Italy) S.r.l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Picture 11" descr="C:\Users\barbara_ferrario\Desktop\Cover Curtin 6e 2016.jpg"/>
          <p:cNvPicPr/>
          <p:nvPr/>
        </p:nvPicPr>
        <p:blipFill>
          <a:blip r:embed="rId3"/>
          <a:stretch/>
        </p:blipFill>
        <p:spPr>
          <a:xfrm>
            <a:off x="8053560" y="139680"/>
            <a:ext cx="984240" cy="13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09440" y="2577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apitolo 1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L’informatica oggi: una panoramica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7" name="Rectangle 13"/>
          <p:cNvSpPr/>
          <p:nvPr/>
        </p:nvSpPr>
        <p:spPr>
          <a:xfrm>
            <a:off x="0" y="0"/>
            <a:ext cx="9252000" cy="702936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22" descr=""/>
          <p:cNvPicPr/>
          <p:nvPr/>
        </p:nvPicPr>
        <p:blipFill>
          <a:blip r:embed="rId1"/>
          <a:stretch/>
        </p:blipFill>
        <p:spPr>
          <a:xfrm>
            <a:off x="-971640" y="2781360"/>
            <a:ext cx="10296720" cy="5275080"/>
          </a:xfrm>
          <a:prstGeom prst="rect">
            <a:avLst/>
          </a:prstGeom>
          <a:ln w="0">
            <a:noFill/>
          </a:ln>
        </p:spPr>
      </p:pic>
      <p:sp>
        <p:nvSpPr>
          <p:cNvPr id="49" name="Text Box 6"/>
          <p:cNvSpPr/>
          <p:nvPr/>
        </p:nvSpPr>
        <p:spPr>
          <a:xfrm>
            <a:off x="106200" y="123840"/>
            <a:ext cx="97221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it-IT" sz="3400" spc="-1" strike="noStrike">
                <a:solidFill>
                  <a:srgbClr val="ffff00"/>
                </a:solidFill>
                <a:latin typeface="Arial"/>
              </a:rPr>
              <a:t>Informatica di base 6/ed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7"/>
          <p:cNvSpPr/>
          <p:nvPr/>
        </p:nvSpPr>
        <p:spPr>
          <a:xfrm>
            <a:off x="108000" y="687240"/>
            <a:ext cx="79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Arial"/>
              </a:rPr>
              <a:t>Autori: Dennis P. Curtin, Kim Foley, Kunal Sen e Cathleen Mor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Arial"/>
              </a:rPr>
              <a:t>A cura di: Agostino Marengo e Alessandro Paga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"/>
          <p:cNvPicPr/>
          <p:nvPr/>
        </p:nvPicPr>
        <p:blipFill>
          <a:blip r:embed="rId2"/>
          <a:stretch/>
        </p:blipFill>
        <p:spPr>
          <a:xfrm>
            <a:off x="8317080" y="5877000"/>
            <a:ext cx="647640" cy="647640"/>
          </a:xfrm>
          <a:prstGeom prst="rect">
            <a:avLst/>
          </a:prstGeom>
          <a:ln cap="sq" w="12600">
            <a:solidFill>
              <a:srgbClr val="ffffff"/>
            </a:solidFill>
            <a:miter/>
          </a:ln>
        </p:spPr>
      </p:pic>
      <p:pic>
        <p:nvPicPr>
          <p:cNvPr id="52" name="Picture 20" descr=""/>
          <p:cNvPicPr/>
          <p:nvPr/>
        </p:nvPicPr>
        <p:blipFill>
          <a:blip r:embed="rId3"/>
          <a:stretch/>
        </p:blipFill>
        <p:spPr>
          <a:xfrm>
            <a:off x="324000" y="1628640"/>
            <a:ext cx="2539800" cy="3506760"/>
          </a:xfrm>
          <a:prstGeom prst="rect">
            <a:avLst/>
          </a:prstGeom>
          <a:ln w="0">
            <a:noFill/>
          </a:ln>
        </p:spPr>
      </p:pic>
      <p:sp>
        <p:nvSpPr>
          <p:cNvPr id="53" name="Text Box 3"/>
          <p:cNvSpPr/>
          <p:nvPr/>
        </p:nvSpPr>
        <p:spPr>
          <a:xfrm>
            <a:off x="5724360" y="5961240"/>
            <a:ext cx="259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Copyright © 20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5"/>
          <p:cNvSpPr/>
          <p:nvPr/>
        </p:nvSpPr>
        <p:spPr>
          <a:xfrm>
            <a:off x="5794920" y="6249960"/>
            <a:ext cx="252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McGraw-Hill Education (Italy) sr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21"/>
          <p:cNvSpPr/>
          <p:nvPr/>
        </p:nvSpPr>
        <p:spPr>
          <a:xfrm>
            <a:off x="3132000" y="1628640"/>
            <a:ext cx="972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00"/>
                </a:solidFill>
                <a:latin typeface="Arial"/>
              </a:rPr>
              <a:t>Capitolo 1 </a:t>
            </a:r>
            <a:br>
              <a:rPr sz="2400"/>
            </a:b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L’informatica oggi: una panoram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Il sistema informativo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Insieme di dati e informazioni strutturati per soddisfare le esigenze conoscitive interne ed esterne all’azienda.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Complesso di procedure ,metodologie e procedimenti, per la realizzazione e la trasmissione dei flussi informativi.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Insieme dei mezzi tecnici, risorse umane ecc.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Concetto di Algoritmo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Un algoritmo è un insieme di regole volte a risolvere un determinato problema in un numero finito di attività (passi, step)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Un algoritmo aiuta a prendere le giuste decisioni in relazione ad un obiettivo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Caratteristiche di un algoritmo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Descrizione inequivocabile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Input preciso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Output preciso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Termina e produce un risultato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Sempre il risultato corretto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Rispetta i requisiti di ingresso, sempre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L’informatica nel mondo dello spettacolo e dell’arte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81" name="Group 2"/>
          <p:cNvGrpSpPr/>
          <p:nvPr/>
        </p:nvGrpSpPr>
        <p:grpSpPr>
          <a:xfrm>
            <a:off x="4319640" y="3971880"/>
            <a:ext cx="3884040" cy="2327400"/>
            <a:chOff x="4319640" y="3971880"/>
            <a:chExt cx="3884040" cy="2327400"/>
          </a:xfrm>
        </p:grpSpPr>
        <p:pic>
          <p:nvPicPr>
            <p:cNvPr id="82" name="Picture 3" descr=""/>
            <p:cNvPicPr/>
            <p:nvPr/>
          </p:nvPicPr>
          <p:blipFill>
            <a:blip r:embed="rId1"/>
            <a:stretch/>
          </p:blipFill>
          <p:spPr>
            <a:xfrm>
              <a:off x="4366800" y="3984480"/>
              <a:ext cx="3824280" cy="231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Rectangle 4"/>
            <p:cNvSpPr/>
            <p:nvPr/>
          </p:nvSpPr>
          <p:spPr>
            <a:xfrm>
              <a:off x="4319640" y="3971880"/>
              <a:ext cx="1340640" cy="1457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ectangle 5"/>
            <p:cNvSpPr/>
            <p:nvPr/>
          </p:nvSpPr>
          <p:spPr>
            <a:xfrm>
              <a:off x="7310520" y="3971880"/>
              <a:ext cx="893160" cy="142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5" name="Picture 6" descr=""/>
          <p:cNvPicPr/>
          <p:nvPr/>
        </p:nvPicPr>
        <p:blipFill>
          <a:blip r:embed="rId2"/>
          <a:stretch/>
        </p:blipFill>
        <p:spPr>
          <a:xfrm>
            <a:off x="520560" y="2057400"/>
            <a:ext cx="3505320" cy="2435400"/>
          </a:xfrm>
          <a:prstGeom prst="rect">
            <a:avLst/>
          </a:prstGeom>
          <a:ln w="0">
            <a:noFill/>
          </a:ln>
        </p:spPr>
      </p:pic>
      <p:sp>
        <p:nvSpPr>
          <p:cNvPr id="86" name="Text Box 7"/>
          <p:cNvSpPr/>
          <p:nvPr/>
        </p:nvSpPr>
        <p:spPr>
          <a:xfrm>
            <a:off x="762120" y="4495680"/>
            <a:ext cx="32004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Cine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Mus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8"/>
          <p:cNvSpPr/>
          <p:nvPr/>
        </p:nvSpPr>
        <p:spPr>
          <a:xfrm>
            <a:off x="4859280" y="2340000"/>
            <a:ext cx="37339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Danza e </a:t>
            </a:r>
            <a:r>
              <a:rPr b="0" i="1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motion cap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Pittura e fotograf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Stereogrammi 3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Informatica: definizione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Insieme dei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processi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 e delle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tecnologie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 che rendono possibile la creazione, la raccolta, l’elaborazione, l’immagazzinamento e la trasmissione dell’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  <a:ea typeface="MS PGothic"/>
              </a:rPr>
              <a:t>informazione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  <a:ea typeface="MS PGothic"/>
              </a:rPr>
              <a:t> con metodi automatici.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I dati non sono informazioni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59" name="Picture 12" descr=""/>
          <p:cNvPicPr/>
          <p:nvPr/>
        </p:nvPicPr>
        <p:blipFill>
          <a:blip r:embed="rId1"/>
          <a:stretch/>
        </p:blipFill>
        <p:spPr>
          <a:xfrm>
            <a:off x="455760" y="1800360"/>
            <a:ext cx="7934040" cy="40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Differenza tra dato e informazione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Dato: elemento direttamente presente alla conoscenza. Non ha bisogno di essere spiegato.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Informazione: rappresenta il dato all’interno di un contesto in modo da definirne un significato.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Hardware e Software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624960" y="1674360"/>
            <a:ext cx="361332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Hardware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1" marL="444600" indent="-157320">
              <a:spcBef>
                <a:spcPts val="55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ruttura fisic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Sofware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1" marL="444600" indent="-157320">
              <a:spcBef>
                <a:spcPts val="55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ivello logico, insieme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lle istruzion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7" descr=""/>
          <p:cNvPicPr/>
          <p:nvPr/>
        </p:nvPicPr>
        <p:blipFill>
          <a:blip r:embed="rId1"/>
          <a:stretch/>
        </p:blipFill>
        <p:spPr>
          <a:xfrm>
            <a:off x="5262480" y="2284560"/>
            <a:ext cx="318636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cc00"/>
                </a:solidFill>
                <a:latin typeface="Arial"/>
              </a:rPr>
              <a:t>Elaborare le informazioni: un ciclo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66" name="Picture 4" descr=""/>
          <p:cNvPicPr/>
          <p:nvPr/>
        </p:nvPicPr>
        <p:blipFill>
          <a:blip r:embed="rId1"/>
          <a:stretch/>
        </p:blipFill>
        <p:spPr>
          <a:xfrm>
            <a:off x="1133640" y="950760"/>
            <a:ext cx="6810120" cy="527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Cos’è un Computer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Elaboratore Elettronico Digitale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1" marL="444600" indent="-157320">
              <a:spcBef>
                <a:spcPts val="55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ppresenta ed elabora dati in base ad una serie di istruzioni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57320">
              <a:spcBef>
                <a:spcPts val="55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tilizza componenti elettronici per elaborare le informazioni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57320">
              <a:spcBef>
                <a:spcPts val="55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e informazioni sono rappresentate mediante I due simboli (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igi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 della numerazione binari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cc00"/>
                </a:solidFill>
                <a:latin typeface="Arial"/>
              </a:rPr>
              <a:t>Sistema operativo e applicazioni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25320" y="1674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155520" indent="-1555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(1) Il sistema operativo gestisce l</a:t>
            </a:r>
            <a:r>
              <a:rPr b="0" lang="ja-JP" sz="2600" spc="-1" strike="noStrike">
                <a:solidFill>
                  <a:srgbClr val="000000"/>
                </a:solidFill>
                <a:latin typeface="Arial"/>
                <a:ea typeface="MS PGothic"/>
              </a:rPr>
              <a:t>’</a:t>
            </a:r>
            <a:r>
              <a:rPr b="0" lang="en-GB" sz="2600" spc="-1" strike="noStrike">
                <a:solidFill>
                  <a:srgbClr val="000000"/>
                </a:solidFill>
                <a:latin typeface="Tahoma"/>
                <a:ea typeface="MS PGothic"/>
              </a:rPr>
              <a:t>hardware.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55520" indent="-1555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(2) I programmi applicativi svolgono le operazioni.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55520" indent="-15552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71" name="Picture 5" descr=""/>
          <p:cNvPicPr/>
          <p:nvPr/>
        </p:nvPicPr>
        <p:blipFill>
          <a:blip r:embed="rId1"/>
          <a:stretch/>
        </p:blipFill>
        <p:spPr>
          <a:xfrm>
            <a:off x="2192400" y="2894040"/>
            <a:ext cx="4641840" cy="32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8400" y="3006360"/>
            <a:ext cx="177804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I diversi tipi di dati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73" name="Picture 4" descr=""/>
          <p:cNvPicPr/>
          <p:nvPr/>
        </p:nvPicPr>
        <p:blipFill>
          <a:blip r:embed="rId1"/>
          <a:stretch/>
        </p:blipFill>
        <p:spPr>
          <a:xfrm>
            <a:off x="1832040" y="326880"/>
            <a:ext cx="6172200" cy="6139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6T16:53:11Z</dcterms:created>
  <dc:creator>Production</dc:creator>
  <dc:description/>
  <dc:language>en-US</dc:language>
  <cp:lastModifiedBy>Danilo Pelusi</cp:lastModifiedBy>
  <dcterms:modified xsi:type="dcterms:W3CDTF">2023-11-20T10:39:53Z</dcterms:modified>
  <cp:revision>541</cp:revision>
  <dc:subject/>
  <dc:title>PowerPoint Presentation</dc:title>
</cp:coreProperties>
</file>