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3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096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5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3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096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1440" y="480600"/>
            <a:ext cx="704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2" marL="731880" indent="-17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3" marL="1020600" indent="-174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4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5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6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6478560"/>
            <a:ext cx="9144000" cy="398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MHE-red-RGB-email-logo.png"/>
          <p:cNvPicPr/>
          <p:nvPr/>
        </p:nvPicPr>
        <p:blipFill>
          <a:blip r:embed="rId2"/>
          <a:stretch/>
        </p:blipFill>
        <p:spPr>
          <a:xfrm>
            <a:off x="88920" y="98280"/>
            <a:ext cx="612720" cy="613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8426520" y="664848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A77F-6843-4D62-9664-8CED8ADAAC75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6"/>
          <p:cNvSpPr/>
          <p:nvPr/>
        </p:nvSpPr>
        <p:spPr>
          <a:xfrm>
            <a:off x="-22320" y="6451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rtin, Foley, Sen, Morin, Informatica di base, 6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6"/>
          <p:cNvSpPr/>
          <p:nvPr/>
        </p:nvSpPr>
        <p:spPr>
          <a:xfrm>
            <a:off x="6561000" y="6485040"/>
            <a:ext cx="25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2016 McGraw-Hill Education (Italy) S.r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C:\Users\barbara_ferrario\Desktop\Cover Curtin 6e 2016.jpg"/>
          <p:cNvPicPr/>
          <p:nvPr/>
        </p:nvPicPr>
        <p:blipFill>
          <a:blip r:embed="rId3"/>
          <a:stretch/>
        </p:blipFill>
        <p:spPr>
          <a:xfrm>
            <a:off x="8053560" y="139680"/>
            <a:ext cx="984240" cy="13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440" y="2577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pitolo 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informatica oggi: una panoramic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0"/>
            <a:ext cx="9252000" cy="7029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1"/>
          <a:stretch/>
        </p:blipFill>
        <p:spPr>
          <a:xfrm>
            <a:off x="-971640" y="2781360"/>
            <a:ext cx="10296720" cy="527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06200" y="123840"/>
            <a:ext cx="972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Informatica di base 6/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8000" y="6872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utori: Dennis P. Curtin, Kim Foley, Kunal Sen e Cathleen Mo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 cura di: Agostino Marengo e Alessandro Pa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47640" cy="6476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52" name="Picture 20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39800" cy="350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24360" y="59612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pyright ©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794920" y="6249960"/>
            <a:ext cx="25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McGraw-Hill Education (Italy) 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132000" y="1628640"/>
            <a:ext cx="97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apitolo 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informatica oggi: una panor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l sistema informativ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i dati e informazioni strutturati per soddisfare le esigenze conoscitive interne ed esterne all’azienda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Complesso di procedure ,metodologie e procedimenti, per la realizzazione e la trasmissione dei flussi informativ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ei mezzi tecnici, risorse umane ecc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ncetto di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è un insieme di regole volte a risolvere un determinato problema in un numero finito di attività (passi, step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aiuta a prendere le giuste decisioni in relazione ad un obiettiv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aratteristiche di un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escrizione inequivocabi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Out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Termina e produce un risulta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empre il risultato corret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Rispetta i requisiti di ingresso, semp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L’informatica nel mondo dello spettacolo e dell’art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4319640" y="3971880"/>
            <a:ext cx="3884040" cy="2327400"/>
            <a:chOff x="4319640" y="3971880"/>
            <a:chExt cx="3884040" cy="23274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4366800" y="3984480"/>
              <a:ext cx="382428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4319640" y="3971880"/>
              <a:ext cx="1340640" cy="14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7310520" y="3971880"/>
              <a:ext cx="893160" cy="14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20560" y="2057400"/>
            <a:ext cx="3505320" cy="243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62120" y="4495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u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859280" y="23400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Danza 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Pittura e fo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tereogramm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nformatica: defini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sieme de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cessi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e dell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ecnologi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che rendono possibile la creazione, la raccolta, l’elaborazione, l’immagazzinamento e la trasmissione dell’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informazion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 con metodi automatic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ati non sono inform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55760" y="1800360"/>
            <a:ext cx="79340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Differenza tra dato e informa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ato: elemento direttamente presente alla conoscenza. Non ha bisogno di essere spieg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formazione: rappresenta il dato all’interno di un contesto in modo da definirne un signific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Hardware e Softwar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4960" y="1674360"/>
            <a:ext cx="361332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 fis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f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lo logico, insie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le istru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62480" y="2284560"/>
            <a:ext cx="318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Elaborare le informazioni: un cicl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68101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s’è un Computer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laboratore Elettronico Digita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 ed elabora dati in base ad una serie di istru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za componenti elettronici per elaborare le informa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informazioni sono rappresentate mediante I due simboli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della numerazione b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istema operativo e applic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5320" y="1674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1) Il sistema operativo gestisce 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MS PGothic"/>
              </a:rPr>
              <a:t>hardware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2) I programmi applicativi svolgono le operazion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192400" y="2894040"/>
            <a:ext cx="4641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400" y="3006360"/>
            <a:ext cx="1778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iversi tipi di dat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832040" y="326880"/>
            <a:ext cx="6172200" cy="613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6:53:11Z</dcterms:created>
  <dc:creator>Production</dc:creator>
  <dc:description/>
  <dc:language>en-US</dc:language>
  <cp:lastModifiedBy>Danilo Pelusi</cp:lastModifiedBy>
  <dcterms:modified xsi:type="dcterms:W3CDTF">2023-11-20T10:39:53Z</dcterms:modified>
  <cp:revision>541</cp:revision>
  <dc:subject/>
  <dc:title>PowerPoint Presentation</dc:title>
</cp:coreProperties>
</file>